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13EF-B56D-40B2-A418-719AAD0F7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5704-E18B-44C0-856A-1D375463B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8BD4-BF04-480D-A48F-C7B54F6F4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B359-D3FD-4A2E-9E0B-3EFABF0C6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CBB8-AD08-4E02-89A9-5218C7D8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EE55-BBE2-43D0-9E8B-99033F9E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0E84-6942-4664-919A-B694550A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EE0A-FCE4-4937-8D22-ACCA1DFA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AE7-3F72-42BD-8127-EB333FC8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976-68D6-4611-AFBE-FCB29C52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A03-2661-4C2D-9E79-0D224A9D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B06A-DD8D-4592-A94E-AA827CDA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4944-F666-44BE-8C61-B9EC0BF4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8592-CD6A-4E6B-B38B-519F696F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C997-0A55-468A-9714-784D3753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08B-D093-4285-8062-45158840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F993-D167-4BD2-9579-306D5E846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4.jpe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7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nessa Cann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integrate more technology into her classroo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11430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4038480" y="0"/>
            <a:ext cx="11430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VC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124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52280" y="3352680"/>
            <a:ext cx="160020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cMinn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ith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nny Cannon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n, Lynn, &amp; Justin Child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yann, Granddaugh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 Multi-Displinary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mentary 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orsements Pre-K. 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51055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/Colleag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685800" y="60958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5"/>
          <p:cNvSpPr/>
          <p:nvPr/>
        </p:nvSpPr>
        <p:spPr>
          <a:xfrm>
            <a:off x="1219320" y="609588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m/Jus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nessa Cann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lanning a wedding in eight weeks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 4, 2011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0"/>
          <p:cNvSpPr/>
          <p:nvPr/>
        </p:nvSpPr>
        <p:spPr>
          <a:xfrm>
            <a:off x="2743200" y="5562720"/>
            <a:ext cx="464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nessa Cann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Hard work pays off, graduation d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nessa Cann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Blessed with granddaughter, now a GiGi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nessa Cann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Family , Friends ,Virginia ,Washing D.C. –Vacation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nessa Cannon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win boys are blessed brother, Justin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ember 19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nessa Cann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Family grows from 2 to 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uary 19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8" descr="TTU.jpg"/>
          <p:cNvPicPr/>
          <p:nvPr/>
        </p:nvPicPr>
        <p:blipFill>
          <a:blip r:embed="rId4"/>
          <a:stretch/>
        </p:blipFill>
        <p:spPr>
          <a:xfrm>
            <a:off x="380880" y="609480"/>
            <a:ext cx="533520" cy="53352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86" name="Picture 53" descr="C:\Documents and Settings\Vanessa\My Documents\My Pictures\My Scans\Fall 2009.jpg"/>
          <p:cNvPicPr/>
          <p:nvPr/>
        </p:nvPicPr>
        <p:blipFill>
          <a:blip r:embed="rId5"/>
          <a:stretch/>
        </p:blipFill>
        <p:spPr>
          <a:xfrm>
            <a:off x="380880" y="1371600"/>
            <a:ext cx="990720" cy="1244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4" descr="C:\Documents and Settings\Vanessa\My Documents\My Pictures\My Scans\Fall 2009.jpg"/>
          <p:cNvPicPr/>
          <p:nvPr/>
        </p:nvPicPr>
        <p:blipFill>
          <a:blip r:embed="rId6"/>
          <a:stretch/>
        </p:blipFill>
        <p:spPr>
          <a:xfrm>
            <a:off x="2057400" y="2362320"/>
            <a:ext cx="457200" cy="644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4" descr="C:\Documents and Settings\Vanessa\My Documents\My Pictures\My Scans\Fall 2009.jpg"/>
          <p:cNvPicPr/>
          <p:nvPr/>
        </p:nvPicPr>
        <p:blipFill>
          <a:blip r:embed="rId7"/>
          <a:stretch/>
        </p:blipFill>
        <p:spPr>
          <a:xfrm>
            <a:off x="2133720" y="3809880"/>
            <a:ext cx="457200" cy="644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6" descr="C:\Documents and Settings\Vanessa\My Documents\My Pictures\My Scans\Fall 2009.jpg"/>
          <p:cNvPicPr/>
          <p:nvPr/>
        </p:nvPicPr>
        <p:blipFill>
          <a:blip r:embed="rId8"/>
          <a:stretch/>
        </p:blipFill>
        <p:spPr>
          <a:xfrm>
            <a:off x="2133720" y="3733920"/>
            <a:ext cx="457200" cy="644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4" descr="C:\Documents and Settings\Vanessa\My Documents\My Pictures\My Scans\Fall 2009.jpg"/>
          <p:cNvPicPr/>
          <p:nvPr/>
        </p:nvPicPr>
        <p:blipFill>
          <a:blip r:embed="rId9"/>
          <a:stretch/>
        </p:blipFill>
        <p:spPr>
          <a:xfrm>
            <a:off x="2133720" y="4495680"/>
            <a:ext cx="457200" cy="644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C:\Documents and Settings\Vanessa\My Documents\My Pictures\My Scans\Fall 2009.jpg"/>
          <p:cNvPicPr/>
          <p:nvPr/>
        </p:nvPicPr>
        <p:blipFill>
          <a:blip r:embed="rId10"/>
          <a:stretch/>
        </p:blipFill>
        <p:spPr>
          <a:xfrm>
            <a:off x="2133720" y="5181480"/>
            <a:ext cx="457200" cy="64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C:\Documents and Settings\Vanessa\My Documents\My Pictures\My Scans\Fall 2009.jpg"/>
          <p:cNvPicPr/>
          <p:nvPr/>
        </p:nvPicPr>
        <p:blipFill>
          <a:blip r:embed="rId11"/>
          <a:stretch/>
        </p:blipFill>
        <p:spPr>
          <a:xfrm>
            <a:off x="2133720" y="5943600"/>
            <a:ext cx="457200" cy="64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4" descr="C:\Documents and Settings\Vanessa\My Documents\My Pictures\My Scans\Fall 2009.jpg"/>
          <p:cNvPicPr/>
          <p:nvPr/>
        </p:nvPicPr>
        <p:blipFill>
          <a:blip r:embed="rId12"/>
          <a:stretch/>
        </p:blipFill>
        <p:spPr>
          <a:xfrm>
            <a:off x="2133720" y="3048120"/>
            <a:ext cx="457200" cy="644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8" descr="C:\Documents and Settings\Vanessa\My Documents\My Pictures\vanessa\Lynn &amp; Cheyann 3 monthsw.jpg"/>
          <p:cNvPicPr/>
          <p:nvPr/>
        </p:nvPicPr>
        <p:blipFill>
          <a:blip r:embed="rId13"/>
          <a:stretch/>
        </p:blipFill>
        <p:spPr>
          <a:xfrm>
            <a:off x="152280" y="5486400"/>
            <a:ext cx="406440" cy="609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9" descr="C:\Documents and Settings\Vanessa\My Documents\My Pictures\vanessa\TeacherWeb Pics\ben.bmp"/>
          <p:cNvPicPr/>
          <p:nvPr/>
        </p:nvPicPr>
        <p:blipFill>
          <a:blip r:embed="rId14"/>
          <a:stretch/>
        </p:blipFill>
        <p:spPr>
          <a:xfrm>
            <a:off x="685800" y="5486400"/>
            <a:ext cx="463680" cy="609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0" descr="C:\Documents and Settings\Vanessa\My Documents\My Pictures\vanessa\TeacherWeb Pics\Justin and Kim.bmp"/>
          <p:cNvPicPr/>
          <p:nvPr/>
        </p:nvPicPr>
        <p:blipFill>
          <a:blip r:embed="rId15"/>
          <a:stretch/>
        </p:blipFill>
        <p:spPr>
          <a:xfrm>
            <a:off x="1295280" y="5562720"/>
            <a:ext cx="692280" cy="519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1" descr="C:\Users\Vanessa\Pictures\West_Wizard.jpg"/>
          <p:cNvPicPr/>
          <p:nvPr/>
        </p:nvPicPr>
        <p:blipFill>
          <a:blip r:embed="rId16"/>
          <a:stretch/>
        </p:blipFill>
        <p:spPr>
          <a:xfrm>
            <a:off x="8229600" y="380880"/>
            <a:ext cx="91440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nessa Cann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integrate more technology into her classroo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nessa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MJC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8"/>
          <p:cNvSpPr/>
          <p:nvPr/>
        </p:nvSpPr>
        <p:spPr>
          <a:xfrm>
            <a:off x="152280" y="3048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152280" y="3276720"/>
            <a:ext cx="160020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cMinn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cMinn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nny Cannon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n, Lynn, &amp; Justin Child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 in Multi-Displinary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mentary 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orsements Pre-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152280" y="492444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2133720" y="1905120"/>
            <a:ext cx="3124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ugust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cMinn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Benny Cannon, 26 Yea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Mother to Boy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en &amp; Lynn, Age 24, Justin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hurch of Chr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2133720" y="3200400"/>
            <a:ext cx="44956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wimming, reading, professional development geek  (science/ math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ding), and spending time with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Reading, Cooking, Traveling, Sh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Children’s Songs, Church Songs, and Country Music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” 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Sweet Home Alabama , Pretty Woman, Titanic , and Happy F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y’s Anatomy, Desperate House Wives, Andy Griffin, &amp; Bona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Junie B. Jones , Magic Tree House Series, Robert Munsch boo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7"/>
          <p:cNvSpPr/>
          <p:nvPr/>
        </p:nvSpPr>
        <p:spPr>
          <a:xfrm>
            <a:off x="990720" y="5486400"/>
            <a:ext cx="83808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1066680" y="6076800"/>
            <a:ext cx="83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Gatli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2133720" y="5105520"/>
            <a:ext cx="426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Wiki Page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http://www.wikispaces.com/user/my/Prettywoman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(931) 473-3801 Ext. 1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lcannon21@students.tntech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0" descr="TTU.jpg"/>
          <p:cNvPicPr/>
          <p:nvPr/>
        </p:nvPicPr>
        <p:blipFill>
          <a:blip r:embed="rId1"/>
          <a:stretch/>
        </p:blipFill>
        <p:spPr>
          <a:xfrm>
            <a:off x="304920" y="533520"/>
            <a:ext cx="609480" cy="6094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35" name="Picture 44" descr="C:\Documents and Settings\Vanessa\My Documents\My Pictures\My Scans\Fall 2009.jpg"/>
          <p:cNvPicPr/>
          <p:nvPr/>
        </p:nvPicPr>
        <p:blipFill>
          <a:blip r:embed="rId2"/>
          <a:stretch/>
        </p:blipFill>
        <p:spPr>
          <a:xfrm>
            <a:off x="457200" y="1447920"/>
            <a:ext cx="826920" cy="1166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5" descr="C:\Documents and Settings\Vanessa\My Documents\My Pictures\Easter Spring 2010\Easter Spring 2010 030.jpg"/>
          <p:cNvPicPr/>
          <p:nvPr/>
        </p:nvPicPr>
        <p:blipFill>
          <a:blip r:embed="rId3"/>
          <a:stretch/>
        </p:blipFill>
        <p:spPr>
          <a:xfrm>
            <a:off x="152280" y="5334120"/>
            <a:ext cx="762120" cy="571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6" descr="C:\Documents and Settings\Vanessa\My Documents\My Pictures\vanessa\Fall '07 Gatlingburg\B &amp; V Apple Barn '07.JPG"/>
          <p:cNvPicPr/>
          <p:nvPr/>
        </p:nvPicPr>
        <p:blipFill>
          <a:blip r:embed="rId4"/>
          <a:stretch/>
        </p:blipFill>
        <p:spPr>
          <a:xfrm>
            <a:off x="152280" y="5943600"/>
            <a:ext cx="812880" cy="609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2" descr="C:\Users\Vanessa\Pictures\West_Wizard.jpg"/>
          <p:cNvPicPr/>
          <p:nvPr/>
        </p:nvPicPr>
        <p:blipFill>
          <a:blip r:embed="rId5"/>
          <a:stretch/>
        </p:blipFill>
        <p:spPr>
          <a:xfrm>
            <a:off x="8197920" y="380880"/>
            <a:ext cx="9460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53352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3657600" y="0"/>
            <a:ext cx="16002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5257800" y="0"/>
            <a:ext cx="11430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nessa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685800" y="1523880"/>
            <a:ext cx="198108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the Cann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1"/>
          <p:cNvSpPr/>
          <p:nvPr/>
        </p:nvSpPr>
        <p:spPr>
          <a:xfrm>
            <a:off x="685800" y="4724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C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3"/>
          <p:cNvSpPr/>
          <p:nvPr/>
        </p:nvSpPr>
        <p:spPr>
          <a:xfrm>
            <a:off x="762120" y="6172200"/>
            <a:ext cx="83808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p S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shing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2057400" y="6095880"/>
            <a:ext cx="1295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shington DC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nessa Cann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reparing to integrate more technology into her classroo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4" descr="TTU.jpg"/>
          <p:cNvPicPr/>
          <p:nvPr/>
        </p:nvPicPr>
        <p:blipFill>
          <a:blip r:embed="rId1"/>
          <a:stretch/>
        </p:blipFill>
        <p:spPr>
          <a:xfrm>
            <a:off x="152280" y="533520"/>
            <a:ext cx="609840" cy="6094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61" name="Picture 36" descr="C:\Users\Vanessa\Pictures\Beautiful Memmie.jpg"/>
          <p:cNvPicPr/>
          <p:nvPr/>
        </p:nvPicPr>
        <p:blipFill>
          <a:blip r:embed="rId2"/>
          <a:stretch/>
        </p:blipFill>
        <p:spPr>
          <a:xfrm>
            <a:off x="2438280" y="34290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7" descr="C:\Users\Vanessa\Pictures\Bridget &amp; Dale Limo.jpg"/>
          <p:cNvPicPr/>
          <p:nvPr/>
        </p:nvPicPr>
        <p:blipFill>
          <a:blip r:embed="rId3"/>
          <a:stretch/>
        </p:blipFill>
        <p:spPr>
          <a:xfrm>
            <a:off x="3886200" y="3429000"/>
            <a:ext cx="1380960" cy="1033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8" descr="C:\Users\Vanessa\Pictures\Cheyann and Justin.jpg"/>
          <p:cNvPicPr/>
          <p:nvPr/>
        </p:nvPicPr>
        <p:blipFill>
          <a:blip r:embed="rId4"/>
          <a:stretch/>
        </p:blipFill>
        <p:spPr>
          <a:xfrm>
            <a:off x="914400" y="34290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9" descr="C:\Users\Vanessa\Pictures\Cheyann's New Tricycle.jpg"/>
          <p:cNvPicPr/>
          <p:nvPr/>
        </p:nvPicPr>
        <p:blipFill>
          <a:blip r:embed="rId5"/>
          <a:stretch/>
        </p:blipFill>
        <p:spPr>
          <a:xfrm>
            <a:off x="1066680" y="1828800"/>
            <a:ext cx="990720" cy="1486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0" descr="C:\Users\Vanessa\Pictures\My Big Sucker.jpg"/>
          <p:cNvPicPr/>
          <p:nvPr/>
        </p:nvPicPr>
        <p:blipFill>
          <a:blip r:embed="rId6"/>
          <a:stretch/>
        </p:blipFill>
        <p:spPr>
          <a:xfrm>
            <a:off x="2209680" y="1828800"/>
            <a:ext cx="914400" cy="1371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3" descr="C:\Documents and Settings\Vanessa\My Documents\My Pictures\Easter Spring 2010\Easter Spring 2010 059.jpg"/>
          <p:cNvPicPr/>
          <p:nvPr/>
        </p:nvPicPr>
        <p:blipFill>
          <a:blip r:embed="rId7"/>
          <a:stretch/>
        </p:blipFill>
        <p:spPr>
          <a:xfrm>
            <a:off x="3276720" y="1905120"/>
            <a:ext cx="1218960" cy="914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4" descr="C:\Documents and Settings\Vanessa\My Documents\My Pictures\vanessa\Vacation May 08\New Pictures 033.jpg"/>
          <p:cNvPicPr/>
          <p:nvPr/>
        </p:nvPicPr>
        <p:blipFill>
          <a:blip r:embed="rId8"/>
          <a:stretch/>
        </p:blipFill>
        <p:spPr>
          <a:xfrm>
            <a:off x="762120" y="5105520"/>
            <a:ext cx="787320" cy="1049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5" descr="C:\Documents and Settings\Vanessa\My Documents\My Pictures\vanessa\Vacation May 08\New Pictures 105.jpg"/>
          <p:cNvPicPr/>
          <p:nvPr/>
        </p:nvPicPr>
        <p:blipFill>
          <a:blip r:embed="rId9"/>
          <a:stretch/>
        </p:blipFill>
        <p:spPr>
          <a:xfrm>
            <a:off x="1905120" y="5029200"/>
            <a:ext cx="1320840" cy="990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1" descr="Scanned Picture.jpg"/>
          <p:cNvPicPr/>
          <p:nvPr/>
        </p:nvPicPr>
        <p:blipFill>
          <a:blip r:embed="rId10"/>
          <a:srcRect l="46326" t="5123" r="1766" b="53394"/>
          <a:stretch/>
        </p:blipFill>
        <p:spPr>
          <a:xfrm>
            <a:off x="4648320" y="1828800"/>
            <a:ext cx="99036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6" descr="C:\Documents and Settings\Vanessa\My Documents\My Pictures\vanessa\2007\2007 090.jpg"/>
          <p:cNvPicPr/>
          <p:nvPr/>
        </p:nvPicPr>
        <p:blipFill>
          <a:blip r:embed="rId11"/>
          <a:stretch/>
        </p:blipFill>
        <p:spPr>
          <a:xfrm>
            <a:off x="5486400" y="3352680"/>
            <a:ext cx="1473120" cy="1105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7" descr="C:\Documents and Settings\Vanessa\My Documents\My Pictures\My Scans\Fall 2009.jpg"/>
          <p:cNvPicPr/>
          <p:nvPr/>
        </p:nvPicPr>
        <p:blipFill>
          <a:blip r:embed="rId12"/>
          <a:stretch/>
        </p:blipFill>
        <p:spPr>
          <a:xfrm>
            <a:off x="3657600" y="5105520"/>
            <a:ext cx="835200" cy="1177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5" descr="C:\Users\Vanessa\Pictures\West_Wizard.jpg"/>
          <p:cNvPicPr/>
          <p:nvPr/>
        </p:nvPicPr>
        <p:blipFill>
          <a:blip r:embed="rId13"/>
          <a:stretch/>
        </p:blipFill>
        <p:spPr>
          <a:xfrm>
            <a:off x="8256600" y="380880"/>
            <a:ext cx="887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Vanessa</cp:lastModifiedBy>
  <dcterms:modified xsi:type="dcterms:W3CDTF">2011-09-04T20:27:47Z</dcterms:modified>
  <cp:revision>46</cp:revision>
  <dc:subject/>
  <dc:title>Profile</dc:title>
</cp:coreProperties>
</file>